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D465A-5F68-4B10-B986-25ED0329D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02274-EC50-4EC6-9AAC-D90549E75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CC2B98-A6B6-4A16-95AE-F93A568002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AC3F9C-B244-4A30-BB8B-7F47D2CBC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9BD850-5E5E-4DD0-A8F7-F94DFB3BCE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C7CFD-ECC1-43C5-B4E1-FC0E710460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5DC50-96C2-42A0-8C19-59D91FC89E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A112BA-82CE-423B-B239-8F274DE56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EE8D7-E385-42FD-A6BD-3C713169F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258CCB-E9B2-48E5-B718-D99BEBFDA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9DF90-7235-41B6-9309-FF451976B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858C07-F55D-4594-99D4-B1CDDEEE20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6E7A-C1C9-4641-872A-985E1793E1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469880"/>
          </a:xfrm>
          <a:prstGeom prst="rect">
            <a:avLst/>
          </a:prstGeom>
          <a:solidFill>
            <a:srgbClr val="d9969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e at Les Maisonettes</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Don’t forge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es Maisonettes is growing – so there will be effects on costs and profit margins as this business grow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udy each option and consider its impact on Sophie’s financial situa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swer this question:</a:t>
            </a: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appropriate financial ratios, analyse the profitability, liquidity and activ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The 4 options</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Overall, Sophie is pleased with her small business and the success. But she is concerned about its future direction and potential market share.</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he consulted with her parents, her bank manager and her employees and identified four options.</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One</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tain the present focus of her business but improve operations and profitability.</a:t>
            </a:r>
            <a:endParaRPr b="0" lang="en-US" sz="3200" spc="-1" strike="noStrike">
              <a:solidFill>
                <a:srgbClr val="000000"/>
              </a:solidFill>
              <a:latin typeface="Calibri"/>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609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Impact on Financ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One on finance</a:t>
            </a:r>
            <a:endParaRPr b="0" lang="en-US" sz="40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 </a:t>
            </a:r>
            <a:r>
              <a:rPr b="0" lang="en-GB" sz="3200" spc="-1" strike="noStrike">
                <a:solidFill>
                  <a:srgbClr val="000000"/>
                </a:solidFill>
                <a:latin typeface="Calibri"/>
              </a:rPr>
              <a:t>This will improve cost control – it will allow her to reduce her costs overtim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Improved marketing will lead to increased revenu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 √</a:t>
            </a:r>
            <a:r>
              <a:rPr b="0" lang="en-GB" sz="3200" spc="-1" strike="noStrike">
                <a:solidFill>
                  <a:srgbClr val="000000"/>
                </a:solidFill>
                <a:latin typeface="Calibri"/>
              </a:rPr>
              <a:t>Creating a more flexible workforce will reduce her costs and will allow her to be more competitiv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3200" spc="-1" strike="noStrike">
                <a:solidFill>
                  <a:srgbClr val="000000"/>
                </a:solidFill>
                <a:latin typeface="Calibri"/>
                <a:ea typeface="Arial"/>
              </a:rPr>
              <a:t>√</a:t>
            </a:r>
            <a:r>
              <a:rPr b="0" lang="en-GB" sz="3200" spc="-1" strike="noStrike">
                <a:solidFill>
                  <a:srgbClr val="000000"/>
                </a:solidFill>
                <a:latin typeface="Calibri"/>
              </a:rPr>
              <a:t> </a:t>
            </a:r>
            <a:r>
              <a:rPr b="0" lang="en-GB" sz="3200" spc="-1" strike="noStrike">
                <a:solidFill>
                  <a:srgbClr val="000000"/>
                </a:solidFill>
                <a:latin typeface="Calibri"/>
              </a:rPr>
              <a:t>This will improve profitability of L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wo</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 an education centre to promote the ideals of sustainable tourism and fulfil the objectives of the AFE.</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modifying existing accommodation, cutting outdoor activities, converting one barn to an education centre and restaurant operations will be restricted to guests at LM.</a:t>
            </a:r>
            <a:endParaRPr b="0" lang="en-US" sz="2800" spc="-1" strike="noStrike">
              <a:solidFill>
                <a:srgbClr val="000000"/>
              </a:solidFill>
              <a:latin typeface="Calibri"/>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wo on Finance</a:t>
            </a:r>
            <a:endParaRPr b="0" lang="en-US" sz="40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This will support her move for eco-tourism so may attract eco-tourists to her – increased revenu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 √</a:t>
            </a:r>
            <a:r>
              <a:rPr b="0" lang="en-GB" sz="2400" spc="-1" strike="noStrike">
                <a:solidFill>
                  <a:srgbClr val="000000"/>
                </a:solidFill>
                <a:latin typeface="Calibri"/>
              </a:rPr>
              <a:t> </a:t>
            </a:r>
            <a:r>
              <a:rPr b="0" lang="en-GB" sz="2400" spc="-1" strike="noStrike">
                <a:solidFill>
                  <a:srgbClr val="000000"/>
                </a:solidFill>
                <a:latin typeface="Calibri"/>
              </a:rPr>
              <a:t>She can now consider marketing to the 18-30 group of eco-tourists she wanted to targe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Cost savings by being more energy efficient and carbon neutra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will cost money to implemen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Cutting outdoor activities means loss of revenue, as they are a good source of income.</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Restricting restaurant operations to guests will reduce their potential customers – so loss of revenu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Three</a:t>
            </a: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position LM as a luxurious eco-tourist retreat, develop a new USP and targeting higher income market segment.</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igh quality locally sourced produce will be offered and a range of services such as saunas etc.</a:t>
            </a:r>
            <a:endParaRPr b="0" lang="en-US" sz="2800" spc="-1" strike="noStrike">
              <a:solidFill>
                <a:srgbClr val="000000"/>
              </a:solidFill>
              <a:latin typeface="Calibri"/>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Calibri"/>
              </a:rPr>
              <a:t>Impact on Fin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Impact of Option Three on Finance</a:t>
            </a:r>
            <a:endParaRPr b="0" lang="en-US" sz="4000" spc="-1" strike="noStrike">
              <a:solidFill>
                <a:srgbClr val="000000"/>
              </a:solidFill>
              <a:latin typeface="Calibri"/>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argeting high income segment will bring in more revenue. This move could make LM very profitabl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services will add an extra source of incom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e-IL" sz="2400" spc="-1" strike="noStrike">
                <a:solidFill>
                  <a:srgbClr val="000000"/>
                </a:solidFill>
                <a:latin typeface="Calibri"/>
                <a:ea typeface="Arial"/>
              </a:rPr>
              <a:t>√</a:t>
            </a:r>
            <a:r>
              <a:rPr b="0" lang="en-GB" sz="2400" spc="-1" strike="noStrike">
                <a:solidFill>
                  <a:srgbClr val="000000"/>
                </a:solidFill>
                <a:latin typeface="Calibri"/>
              </a:rPr>
              <a:t> </a:t>
            </a:r>
            <a:r>
              <a:rPr b="0" lang="en-GB" sz="2400" spc="-1" strike="noStrike">
                <a:solidFill>
                  <a:srgbClr val="000000"/>
                </a:solidFill>
                <a:latin typeface="Calibri"/>
              </a:rPr>
              <a:t>The quality will be a big focus and so will improve its image – increased revenu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substantial investment to upgrade and expand existing facilities.</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She will need to invest a great deal into recruiting and training staff, so her costs will increase.</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X This move could increase her gearing, which is currently low, but an increase could mean more interest payments for her. This will not make her very competitiv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Option Four</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ll the whole business to a timeshare operator who will redevelop the business.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oney goes to her parents’ retirement and some will go towards renovating the shop.</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means she loses control and ownership of LM.</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Financial issues to revise</a:t>
            </a:r>
            <a:endParaRPr b="0" lang="en-US" sz="4400" spc="-1" strike="noStrike">
              <a:solidFill>
                <a:srgbClr val="000000"/>
              </a:solidFill>
              <a:latin typeface="Calibri"/>
            </a:endParaRPr>
          </a:p>
        </p:txBody>
      </p:sp>
      <p:sp>
        <p:nvSpPr>
          <p:cNvPr id="44" name=""/>
          <p:cNvSpPr txBox="1"/>
          <p:nvPr/>
        </p:nvSpPr>
        <p:spPr>
          <a:xfrm>
            <a:off x="457200" y="1447920"/>
            <a:ext cx="822960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ownward pressure on profit margin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oncerns highlighted in the balance sheet</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ne 152 – Sophie is considering applying for a bank loan – and knows she can do so with a good interest rat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needs to prepare a business plan and consider her budget for the new holiday packages (line 91)</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 ANALYSIS </a:t>
            </a: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NALYSING THE FINANCIAL SITUATION OF LES MAISONNETTES</a:t>
            </a:r>
            <a:endParaRPr b="0" lang="en-US" sz="3200" spc="-1" strike="noStrike">
              <a:solidFill>
                <a:srgbClr val="000000"/>
              </a:solidFill>
              <a:latin typeface="Calibri"/>
            </a:endParaRPr>
          </a:p>
        </p:txBody>
      </p:sp>
      <p:graphicFrame>
        <p:nvGraphicFramePr>
          <p:cNvPr id="81" name=""/>
          <p:cNvGraphicFramePr/>
          <p:nvPr/>
        </p:nvGraphicFramePr>
        <p:xfrm>
          <a:off x="2666880" y="1981080"/>
          <a:ext cx="4114800" cy="1067040"/>
        </p:xfrm>
        <a:graphic>
          <a:graphicData uri="http://schemas.openxmlformats.org/drawingml/2006/table">
            <a:tbl>
              <a:tblPr/>
              <a:tblGrid>
                <a:gridCol w="4114800"/>
              </a:tblGrid>
              <a:tr h="1067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82" name=""/>
          <p:cNvGraphicFramePr/>
          <p:nvPr/>
        </p:nvGraphicFramePr>
        <p:xfrm>
          <a:off x="457200" y="3200400"/>
          <a:ext cx="8458200" cy="1371600"/>
        </p:xfrm>
        <a:graphic>
          <a:graphicData uri="http://schemas.openxmlformats.org/drawingml/2006/table">
            <a:tbl>
              <a:tblPr/>
              <a:tblGrid>
                <a:gridCol w="8458200"/>
              </a:tblGrid>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u="sng">
                <a:solidFill>
                  <a:srgbClr val="000000"/>
                </a:solidFill>
                <a:uFillTx/>
                <a:latin typeface="Calibri"/>
              </a:rPr>
              <a:t>Ratio Analysi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are used to interpret financial account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 Analysis can be used to assess the financial performance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Ratios can be used to analyse three separate issues on the operations of a business:</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Performance: which compasses profitability and productivity</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Liquidity: which refers to the ability of the business to generate cash for operating the business as and when required</a:t>
            </a:r>
            <a:endParaRPr b="0" lang="en-US" sz="2300" spc="-1" strike="noStrike">
              <a:solidFill>
                <a:srgbClr val="000000"/>
              </a:solidFill>
              <a:latin typeface="Calibri"/>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Calibri"/>
              </a:rPr>
              <a:t>Shareholder: which concerns the variables that just the shareholders are likely to be interested in.</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Q: What are the advantages and disadvantages of using ratio analysis?</a:t>
            </a:r>
            <a:br>
              <a:rPr sz="2400"/>
            </a:br>
            <a:endParaRPr b="0" lang="en-US" sz="24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in advantages of ratio analysis will b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will be able to look at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ios can be used to forecast and plan, summarise data, to identify problems before they become acute and to assess performanc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do an inter-firm comparison</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see and analyse trend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make future predictions based on your finding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You can find areas with high problems and try to find ways to solve the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Disadvantages of Ratios</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However, ratios should be used with caution. Ratio analysis does not provide a complete means of assessing a company’s financial performance. There are problems with using ratios. The main disadvantages of ratio analysis ar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only highlight the problem but not provide a solu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Based on historical information and does not take into account positive factors within a business such as location, quality of staff etc. all of which can affect performance.</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Ratios do not take many factors into consider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They do not measure non-monetary factor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When making comparisons between ratios overtime, it is necessary to take into account the following:</a:t>
            </a:r>
            <a:endParaRPr b="0" lang="en-US" sz="1900" spc="-1" strike="noStrike">
              <a:solidFill>
                <a:srgbClr val="000000"/>
              </a:solidFill>
              <a:latin typeface="Calibri"/>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Inflation</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Any changes in accounting procedures</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the business activities of the firm</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Changes in general business conditions and the economic environment.</a:t>
            </a:r>
            <a:endParaRPr b="0" lang="en-US" sz="1900" spc="-1" strike="noStrike">
              <a:solidFill>
                <a:srgbClr val="000000"/>
              </a:solidFill>
              <a:latin typeface="Calibri"/>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rofitability Ratios</a:t>
            </a: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focus on the firm’s profit.</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e will look at profit in relation to the value of sales revenu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PM: known as mark-up. This shows the gross profit made on sales turnover.</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PM: helps to measure how well a business covers its overheads. If the difference between the gross profit and net profit is small, then overheads are low.</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OCE: an important ratio. It tells what returns the firm has made on the resources mad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Ratios to Calculate - Profitability</a:t>
            </a:r>
            <a:endParaRPr b="0" lang="en-US" sz="4000" spc="-1" strike="noStrike">
              <a:solidFill>
                <a:srgbClr val="000000"/>
              </a:solidFill>
              <a:latin typeface="Calibri"/>
            </a:endParaRPr>
          </a:p>
        </p:txBody>
      </p:sp>
      <p:sp>
        <p:nvSpPr>
          <p:cNvPr id="92" name="PlaceHolder 2"/>
          <p:cNvSpPr>
            <a:spLocks noGrp="1"/>
          </p:cNvSpPr>
          <p:nvPr>
            <p:ph/>
          </p:nvPr>
        </p:nvSpPr>
        <p:spPr>
          <a:xfrm>
            <a:off x="0" y="1600200"/>
            <a:ext cx="403848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graphicFrame>
        <p:nvGraphicFramePr>
          <p:cNvPr id="93" name=""/>
          <p:cNvGraphicFramePr/>
          <p:nvPr/>
        </p:nvGraphicFramePr>
        <p:xfrm>
          <a:off x="304920" y="1295280"/>
          <a:ext cx="8381880" cy="4653000"/>
        </p:xfrm>
        <a:graphic>
          <a:graphicData uri="http://schemas.openxmlformats.org/drawingml/2006/table">
            <a:tbl>
              <a:tblPr/>
              <a:tblGrid>
                <a:gridCol w="2874960"/>
                <a:gridCol w="5506920"/>
              </a:tblGrid>
              <a:tr h="13683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40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fit before tax and interes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100</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apital Employed</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Profitability Ratios</a:t>
            </a:r>
            <a:endParaRPr b="0" lang="en-US" sz="4000" spc="-1" strike="noStrike">
              <a:solidFill>
                <a:srgbClr val="000000"/>
              </a:solidFill>
              <a:latin typeface="Calibri"/>
            </a:endParaRPr>
          </a:p>
        </p:txBody>
      </p:sp>
      <p:graphicFrame>
        <p:nvGraphicFramePr>
          <p:cNvPr id="95" name=""/>
          <p:cNvGraphicFramePr/>
          <p:nvPr/>
        </p:nvGraphicFramePr>
        <p:xfrm>
          <a:off x="380880" y="838080"/>
          <a:ext cx="8458200" cy="5284800"/>
        </p:xfrm>
        <a:graphic>
          <a:graphicData uri="http://schemas.openxmlformats.org/drawingml/2006/table">
            <a:tbl>
              <a:tblPr/>
              <a:tblGrid>
                <a:gridCol w="3413160"/>
                <a:gridCol w="2522520"/>
                <a:gridCol w="2522520"/>
              </a:tblGrid>
              <a:tr h="760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343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ss Profit Margin</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4.03%</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92.36%</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13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PM –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Profit Margi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41.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33.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889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CE – Return on Capital Employed</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3.04%</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10.05%</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6" name="Line 41"/>
          <p:cNvSpPr/>
          <p:nvPr/>
        </p:nvSpPr>
        <p:spPr>
          <a:xfrm>
            <a:off x="8381880" y="19810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Line 42"/>
          <p:cNvSpPr/>
          <p:nvPr/>
        </p:nvSpPr>
        <p:spPr>
          <a:xfrm>
            <a:off x="8381880" y="3200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Line 43"/>
          <p:cNvSpPr/>
          <p:nvPr/>
        </p:nvSpPr>
        <p:spPr>
          <a:xfrm>
            <a:off x="8381880" y="45720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level of profitability has reduced at L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re is a large difference between the GPM and NPM, showing the difficulties Sophie is facing with controlling overhead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reduced NPM is not a good sign, showing she has less profit to distribute to shareholders and to reinvest in the busine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drop in ROCE does not show LM to be a safe investment.</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Analysis of Les Maisonnettes’ profitability</a:t>
            </a:r>
            <a:endParaRPr b="0" lang="en-US" sz="40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r overheads are clearly not being spread over a greater level of sale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is not benefiting from economies of scale. She needs to improve productivity and lower costs.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has decreased, this means that sales growth has been slower than the rise in capital.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ROCE will drop due to reduced gross and net profit.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seems that LM has poor cost control in terms of direct cost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Causes’ of LM’s declining profitability</a:t>
            </a:r>
            <a:endParaRPr b="0" lang="en-US" sz="40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could be because she has only relied on word of mouth promotion – and she needs to alter her marketing strateg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costs of the activities are high. (Her expenses increased by 8000 euros in 3 years (see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declined and cost of sales increased (appendix 3)</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he was charging the same amount all year and not taking advantage of peak seas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petition (Sanctuary) and other external factors such as the housing market, weather condition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alth and safety regulations meant increased costs for her.</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o business website – not taking advantage of online booking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urces of Financ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ophie already took out a </a:t>
            </a:r>
            <a:r>
              <a:rPr b="1" lang="en-GB" sz="2800" spc="-1" strike="noStrike">
                <a:solidFill>
                  <a:srgbClr val="000000"/>
                </a:solidFill>
                <a:latin typeface="Calibri"/>
              </a:rPr>
              <a:t>bank loan </a:t>
            </a:r>
            <a:r>
              <a:rPr b="0" lang="en-GB" sz="2800" spc="-1" strike="noStrike">
                <a:solidFill>
                  <a:srgbClr val="000000"/>
                </a:solidFill>
                <a:latin typeface="Calibri"/>
              </a:rPr>
              <a:t>initially at the start to fund the new venture “Les Maisonettes” - €300,000 to be paid back in 2026. (Line 15)</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2004 – </a:t>
            </a:r>
            <a:r>
              <a:rPr b="1" lang="en-GB" sz="2800" spc="-1" strike="noStrike">
                <a:solidFill>
                  <a:srgbClr val="000000"/>
                </a:solidFill>
                <a:latin typeface="Calibri"/>
              </a:rPr>
              <a:t>conversion </a:t>
            </a:r>
            <a:r>
              <a:rPr b="0" lang="en-GB" sz="2800" spc="-1" strike="noStrike">
                <a:solidFill>
                  <a:srgbClr val="000000"/>
                </a:solidFill>
                <a:latin typeface="Calibri"/>
              </a:rPr>
              <a:t>from sole trader to LT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 classes are providing a large source of income for Sophie. But she had to take out an additional 5 year </a:t>
            </a:r>
            <a:r>
              <a:rPr b="1" lang="en-GB" sz="2800" spc="-1" strike="noStrike">
                <a:solidFill>
                  <a:srgbClr val="000000"/>
                </a:solidFill>
                <a:latin typeface="Calibri"/>
              </a:rPr>
              <a:t>bank loan </a:t>
            </a:r>
            <a:r>
              <a:rPr b="0" lang="en-GB" sz="2800" spc="-1" strike="noStrike">
                <a:solidFill>
                  <a:srgbClr val="000000"/>
                </a:solidFill>
                <a:latin typeface="Calibri"/>
              </a:rPr>
              <a:t>of €15,000 for equipment and start up cos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are capital – see balance shee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How can profitability improve?</a:t>
            </a:r>
            <a:endParaRPr b="0" lang="en-US" sz="40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her marketing strategy to increase sales revenue. Strategies such as sales promotion may help to boost sal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costs – such as labour costs (but this may impact on morale and productivity – customer servic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 indirect costs – overheads - without damaging effects to the firm.</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a:t>
            </a: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Liquidity ratios measure how assets of a business can be converted into cash.</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usiness must make sure it has enough liquid assets to pay any immediate bills that arise.</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ratios are concerned with the short-term financial health of the busines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y are concerned with the firm’s working capital and whether or not it is being managed effectively.</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oo much and it may not be making the most efficient use of its financial resourc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to Calculate</a:t>
            </a:r>
            <a:endParaRPr b="0" lang="en-US" sz="4400" spc="-1" strike="noStrike">
              <a:solidFill>
                <a:srgbClr val="000000"/>
              </a:solidFill>
              <a:latin typeface="Calibri"/>
            </a:endParaRPr>
          </a:p>
        </p:txBody>
      </p:sp>
      <p:graphicFrame>
        <p:nvGraphicFramePr>
          <p:cNvPr id="110" name=""/>
          <p:cNvGraphicFramePr/>
          <p:nvPr/>
        </p:nvGraphicFramePr>
        <p:xfrm>
          <a:off x="457200" y="1600200"/>
          <a:ext cx="8229600" cy="4425840"/>
        </p:xfrm>
        <a:graphic>
          <a:graphicData uri="http://schemas.openxmlformats.org/drawingml/2006/table">
            <a:tbl>
              <a:tblPr/>
              <a:tblGrid>
                <a:gridCol w="2822400"/>
                <a:gridCol w="5407200"/>
              </a:tblGrid>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Ratio</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28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id Test Ratio</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assets – Stock</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urrent Liabiliti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Liquidity Ratios - Calculations</a:t>
            </a:r>
            <a:endParaRPr b="0" lang="en-US" sz="4400" spc="-1" strike="noStrike">
              <a:solidFill>
                <a:srgbClr val="000000"/>
              </a:solidFill>
              <a:latin typeface="Calibri"/>
            </a:endParaRPr>
          </a:p>
        </p:txBody>
      </p:sp>
      <p:graphicFrame>
        <p:nvGraphicFramePr>
          <p:cNvPr id="112" name=""/>
          <p:cNvGraphicFramePr/>
          <p:nvPr/>
        </p:nvGraphicFramePr>
        <p:xfrm>
          <a:off x="533520" y="1371600"/>
          <a:ext cx="8229600" cy="5021280"/>
        </p:xfrm>
        <a:graphic>
          <a:graphicData uri="http://schemas.openxmlformats.org/drawingml/2006/table">
            <a:tbl>
              <a:tblPr/>
              <a:tblGrid>
                <a:gridCol w="3351240"/>
                <a:gridCol w="2439720"/>
                <a:gridCol w="2438640"/>
              </a:tblGrid>
              <a:tr h="167796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atios</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2008</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175932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urrent Ratio</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75</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55</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4000">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cid Test Ratio</a:t>
                      </a:r>
                      <a:endParaRPr b="0" lang="en-US" sz="3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1.25</a:t>
                      </a:r>
                      <a:endParaRPr b="0" lang="en-US" sz="3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0.22</a:t>
                      </a:r>
                      <a:endParaRPr b="0" lang="en-US" sz="3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3" name="Line 36"/>
          <p:cNvSpPr/>
          <p:nvPr/>
        </p:nvSpPr>
        <p:spPr>
          <a:xfrm>
            <a:off x="8305920" y="350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7"/>
          <p:cNvSpPr/>
          <p:nvPr/>
        </p:nvSpPr>
        <p:spPr>
          <a:xfrm>
            <a:off x="82296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t is generally accepted that a current ratio of 1.5 to 2.0 is desirable – this will allow for a safety margi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n 2005, LM’s current ratio was in a comfortable position at 1.75:1. However, in 2008, it had declined to 0.55, showing insufficient working capital. This means that as a result of the ratio being below 1:1, the short term debts of the business are greater than its liquid assets, which is not a good position to be i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Analysis of LM’s Liquidity</a:t>
            </a: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is means that LM does not have enough working capital – it could be over-borrowing or over tra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s a general rule, the ATR should be at least 1:1. This means that, in 2008, LM’s ratio fell to 0.22:1, and this is not a good sign. This shows that Sophie may be experiencing working capital problems, and if this continues, she could face a liquidity crisi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TR shows that she could be unable to cover short-term debts</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Solutions to LM’s liquidity problems</a:t>
            </a:r>
            <a:endParaRPr b="0" lang="en-US" sz="40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 its current assets relative to its current liabilities. O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duce its current liabilities relative to its current asse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 LM’s case, it is her short term borrowing that has increased drastically by 15,000 Euros – and this will have to reduce in order to improve liquidit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he should also consider reducing short term creditor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Efficiency Ratios</a:t>
            </a:r>
            <a:endParaRPr b="0" lang="en-US" sz="44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so called activity ratio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se are used to measure how effectively a business employs its resour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y look at how well a firm’s financial resources are being used.</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Activity) Ratios</a:t>
            </a:r>
            <a:endParaRPr b="0" lang="en-US" sz="4000" spc="-1" strike="noStrike">
              <a:solidFill>
                <a:srgbClr val="000000"/>
              </a:solidFill>
              <a:latin typeface="Calibri"/>
            </a:endParaRPr>
          </a:p>
        </p:txBody>
      </p:sp>
      <p:graphicFrame>
        <p:nvGraphicFramePr>
          <p:cNvPr id="124" name=""/>
          <p:cNvGraphicFramePr/>
          <p:nvPr/>
        </p:nvGraphicFramePr>
        <p:xfrm>
          <a:off x="533520" y="990720"/>
          <a:ext cx="8229600" cy="5529240"/>
        </p:xfrm>
        <a:graphic>
          <a:graphicData uri="http://schemas.openxmlformats.org/drawingml/2006/table">
            <a:tbl>
              <a:tblPr/>
              <a:tblGrid>
                <a:gridCol w="2822400"/>
                <a:gridCol w="5407200"/>
              </a:tblGrid>
              <a:tr h="14976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verage Stock</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b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les Revenue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 </a:t>
                      </a:r>
                      <a:r>
                        <a:rPr b="1" lang="en-GB" sz="2400" spc="-1" strike="noStrike">
                          <a:solidFill>
                            <a:srgbClr val="000000"/>
                          </a:solidFill>
                          <a:latin typeface="Calibri"/>
                        </a:rPr>
                        <a:t>(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 365</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st of sal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43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t Asset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000000"/>
                </a:solidFill>
                <a:uFillTx/>
                <a:latin typeface="Calibri"/>
              </a:rPr>
              <a:t>Efficiency Ratios - Calculations</a:t>
            </a:r>
            <a:endParaRPr b="0" lang="en-US" sz="4000" spc="-1" strike="noStrike">
              <a:solidFill>
                <a:srgbClr val="000000"/>
              </a:solidFill>
              <a:latin typeface="Calibri"/>
            </a:endParaRPr>
          </a:p>
        </p:txBody>
      </p:sp>
      <p:graphicFrame>
        <p:nvGraphicFramePr>
          <p:cNvPr id="126" name=""/>
          <p:cNvGraphicFramePr/>
          <p:nvPr/>
        </p:nvGraphicFramePr>
        <p:xfrm>
          <a:off x="457200" y="1600200"/>
          <a:ext cx="8381880" cy="4691160"/>
        </p:xfrm>
        <a:graphic>
          <a:graphicData uri="http://schemas.openxmlformats.org/drawingml/2006/table">
            <a:tbl>
              <a:tblPr/>
              <a:tblGrid>
                <a:gridCol w="3321000"/>
                <a:gridCol w="2389320"/>
                <a:gridCol w="2671560"/>
              </a:tblGrid>
              <a:tr h="609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Ratio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eece1"/>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008</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eece1"/>
                    </a:solidFill>
                  </a:tcPr>
                </a:tc>
              </a:tr>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Stock Turnover</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5.67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2.33 times</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ebtors’ Days (HL)</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92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3.98 day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reditors’ Days (HL)</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128.7 day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78.21 days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0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Asset Turno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1 time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0.30 time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7" name="Line 47"/>
          <p:cNvSpPr/>
          <p:nvPr/>
        </p:nvSpPr>
        <p:spPr>
          <a:xfrm>
            <a:off x="8458200" y="25146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Line 48"/>
          <p:cNvSpPr/>
          <p:nvPr/>
        </p:nvSpPr>
        <p:spPr>
          <a:xfrm>
            <a:off x="8458200" y="43434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Line 49"/>
          <p:cNvSpPr/>
          <p:nvPr/>
        </p:nvSpPr>
        <p:spPr>
          <a:xfrm flipV="1">
            <a:off x="8458200" y="3352320"/>
            <a:ext cx="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61"/>
          <p:cNvSpPr/>
          <p:nvPr/>
        </p:nvSpPr>
        <p:spPr>
          <a:xfrm>
            <a:off x="8458200" y="53341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Using the following formula calculate LM’s gearing ratio (see appendix fou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Loan capital/capital employed * 100</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ummary of LM’s Efficiency</a:t>
            </a: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tock turnover has reduced, which is not a good sign for LM. This means less stock is sold and less profit generated. Sophie is not benefiting from purchasing economies of scal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M’s debtors days ratio is low, which is good, but increasing. This means that it takes upto 4 days for debtors to pay. But too low a ratio is not good either, as customers may seek other suppliers if the credit period given to them is uncompetitive. It could also suggest that there are not enough firms buying on credit. Good credit control should be within 30-60 day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reditors’ days should also be between 30-60 days. LM’s is very high. This could mean that LM is taking too long to may have a harmful effect on her cash flow. </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Solutions to LM’s efficiency</a:t>
            </a: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evelop a closer relationship with customers, suppliers and creditor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levels of stock control in the busin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mprove credit control, which will help improve its working capit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 turnover using the same assets, so that assets work more effectively is a way to improve asset turnov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You must also revise</a:t>
            </a:r>
            <a:endParaRPr b="0" lang="en-US" sz="4400" spc="-1" strike="noStrike">
              <a:solidFill>
                <a:srgbClr val="000000"/>
              </a:solidFill>
              <a:latin typeface="Calibri"/>
            </a:endParaRPr>
          </a:p>
        </p:txBody>
      </p:sp>
      <p:sp>
        <p:nvSpPr>
          <p:cNvPr id="136" name=""/>
          <p:cNvSpPr txBox="1"/>
          <p:nvPr/>
        </p:nvSpPr>
        <p:spPr>
          <a:xfrm>
            <a:off x="304920" y="1600200"/>
            <a:ext cx="8610480" cy="452592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dvantages and disadvantages of bank loan as a source of finance?</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at additional sources of finance would you recommend for Les maisonettes?</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ise what a business plan and what should be included in it and why it is used?</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budgeting!!</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revise the meaning of all ratios and apply them to LM.</a:t>
            </a:r>
            <a:endParaRPr b="0" lang="en-US" sz="2800" spc="-1" strike="noStrike">
              <a:solidFill>
                <a:srgbClr val="000000"/>
              </a:solidFill>
              <a:latin typeface="Calibri"/>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ou need to learn and revise WORKING CAPIT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alibri"/>
              </a:rPr>
              <a:t>Gearing</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43.1% for 2005</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34.4% for 2008</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Using the Raffo book – what does this tell you about its gearing le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Non-Financial factors</a:t>
            </a:r>
            <a:endParaRPr b="0" lang="en-US" sz="4400" spc="-1" strike="noStrike">
              <a:solidFill>
                <a:srgbClr val="000000"/>
              </a:solidFill>
              <a:latin typeface="Calibri"/>
            </a:endParaRPr>
          </a:p>
        </p:txBody>
      </p:sp>
      <p:graphicFrame>
        <p:nvGraphicFramePr>
          <p:cNvPr id="52" name=""/>
          <p:cNvGraphicFramePr/>
          <p:nvPr/>
        </p:nvGraphicFramePr>
        <p:xfrm>
          <a:off x="457200" y="1600200"/>
          <a:ext cx="8229600" cy="3886200"/>
        </p:xfrm>
        <a:graphic>
          <a:graphicData uri="http://schemas.openxmlformats.org/drawingml/2006/table">
            <a:tbl>
              <a:tblPr/>
              <a:tblGrid>
                <a:gridCol w="2057400"/>
                <a:gridCol w="2057400"/>
                <a:gridCol w="1752480"/>
                <a:gridCol w="2362320"/>
              </a:tblGrid>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posi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mpact on finance (negativ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4" name=""/>
          <p:cNvGraphicFramePr/>
          <p:nvPr/>
        </p:nvGraphicFramePr>
        <p:xfrm>
          <a:off x="457200" y="457200"/>
          <a:ext cx="8686800" cy="5668920"/>
        </p:xfrm>
        <a:graphic>
          <a:graphicData uri="http://schemas.openxmlformats.org/drawingml/2006/table">
            <a:tbl>
              <a:tblPr/>
              <a:tblGrid>
                <a:gridCol w="2131920"/>
                <a:gridCol w="711360"/>
                <a:gridCol w="3236760"/>
                <a:gridCol w="2606760"/>
              </a:tblGrid>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Joint venture with local wine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ill provide increased revenue for Les Maisonet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ay bring about extra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 growing niche market – can increase revenue (Logis de France) (25% growth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ew visitors from 18-30 age group who believe in eco-touris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56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icing strateg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considering charging higher prices during peak season which will bring in more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has been charging the same amount throughout the year so not benefiting from peak season. (lost revenue opportunities). Plus she may have to reduce prices to maintain occupancy rates (Line 6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arketing approac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etter marketing – increased awareness and reven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is will cost money to impleme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334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on-Financial factors</a:t>
            </a:r>
            <a:endParaRPr b="0" lang="en-US" sz="2000" spc="-1" strike="noStrike">
              <a:solidFill>
                <a:srgbClr val="000000"/>
              </a:solidFill>
              <a:latin typeface="Calibri"/>
            </a:endParaRPr>
          </a:p>
        </p:txBody>
      </p:sp>
      <p:graphicFrame>
        <p:nvGraphicFramePr>
          <p:cNvPr id="56" name=""/>
          <p:cNvGraphicFramePr/>
          <p:nvPr/>
        </p:nvGraphicFramePr>
        <p:xfrm>
          <a:off x="304920" y="685800"/>
          <a:ext cx="8610480" cy="6103800"/>
        </p:xfrm>
        <a:graphic>
          <a:graphicData uri="http://schemas.openxmlformats.org/drawingml/2006/table">
            <a:tbl>
              <a:tblPr/>
              <a:tblGrid>
                <a:gridCol w="2152440"/>
                <a:gridCol w="2152800"/>
                <a:gridCol w="1992240"/>
                <a:gridCol w="2313000"/>
              </a:tblGrid>
              <a:tr h="717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2956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age 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t has made her find further ways to develop her business (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ophie may have to lower prices to beat competition and to keep occupancy ra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anctuary’s costs are low (rea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he is finding it harder to attract new custom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19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Activit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8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y represent a growing source of income for L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e borrowing required to pay for equipment and start-up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9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affing issues (HR and demographic changes Line 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9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mall amount of staff/part time – less labour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affing issues may affect customer service and word of mout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Non-Financial factors</a:t>
            </a:r>
            <a:endParaRPr b="0" lang="en-US" sz="4000" spc="-1" strike="noStrike">
              <a:solidFill>
                <a:srgbClr val="000000"/>
              </a:solidFill>
              <a:latin typeface="Calibri"/>
            </a:endParaRPr>
          </a:p>
        </p:txBody>
      </p:sp>
      <p:graphicFrame>
        <p:nvGraphicFramePr>
          <p:cNvPr id="58" name=""/>
          <p:cNvGraphicFramePr/>
          <p:nvPr/>
        </p:nvGraphicFramePr>
        <p:xfrm>
          <a:off x="0" y="609480"/>
          <a:ext cx="9144000" cy="5989680"/>
        </p:xfrm>
        <a:graphic>
          <a:graphicData uri="http://schemas.openxmlformats.org/drawingml/2006/table">
            <a:tbl>
              <a:tblPr/>
              <a:tblGrid>
                <a:gridCol w="2286000"/>
                <a:gridCol w="2286000"/>
                <a:gridCol w="2201760"/>
                <a:gridCol w="2370240"/>
              </a:tblGrid>
              <a:tr h="931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on Financial Fa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ine 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osi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gative impact on fin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779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ealth &amp; Safety EU Legis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ess problems with accidents (costs l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ig cost implic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1213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ouse pri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2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alling holiday rents and increased competi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494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inter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an help increase awareness and allow her to be more competitive. Increased sales through on-line book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54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ew motorw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ow cost routes to Engl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eath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ne 1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d ins. Premiums/loss of revenue/cancel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00:00:00Z</dcterms:created>
  <dc:creator>Eavan Zora</dc:creator>
  <dc:description/>
  <dc:language>en-US</dc:language>
  <cp:lastModifiedBy>chwh</cp:lastModifiedBy>
  <dcterms:modified xsi:type="dcterms:W3CDTF">2009-03-31T06:47:20Z</dcterms:modified>
  <cp:revision>76</cp:revision>
  <dc:subject/>
  <dc:title>Finance at Les Maisonettes</dc:title>
</cp:coreProperties>
</file>